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174627"/>
        <c:axId val="51768672"/>
      </c:barChart>
      <c:catAx>
        <c:axId val="39174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68672"/>
        <c:crosses val="autoZero"/>
        <c:auto val="1"/>
        <c:lblAlgn val="ctr"/>
        <c:lblOffset val="100"/>
        <c:noMultiLvlLbl val="0"/>
      </c:catAx>
      <c:valAx>
        <c:axId val="51768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74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D81-83D5-4294-8DDC-E82E9A12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4F9-D306-421C-A658-200DB2EC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ECA9-9501-4AC0-8F1A-E30E532F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75C-71F8-434B-BFF9-19AAE7AB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3C7-47FC-4B64-91AE-E710F9BB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A0A-667B-4509-BA70-8DD631A9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A5F9-BFD4-4F65-94B9-E4373C6F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33F-3BD2-40F0-AF7C-3A5AA90E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8AE-5845-435D-89C7-74DA6A9F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F76-CEFC-4DBC-8292-14513440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407-B4DF-4E82-B04B-5438DADC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822-F9E0-4D20-ACEE-061B1257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97D1A-B7F8-4103-88B6-A36CD515D6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