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789"/>
        <c:axId val="6821849"/>
      </c:barChart>
      <c:catAx>
        <c:axId val="440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1849"/>
        <c:crosses val="autoZero"/>
        <c:auto val="1"/>
        <c:lblAlgn val="ctr"/>
        <c:lblOffset val="100"/>
        <c:noMultiLvlLbl val="0"/>
      </c:catAx>
      <c:valAx>
        <c:axId val="6821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0B3-5A08-4CCD-B7F4-3410C874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7EF-432B-4B40-8140-EFC4D6DB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B1B-9573-4C92-878F-1FAFD711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F64-F203-48FC-9B49-BB596C57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EFF-9E66-4E50-89DC-1749E516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D7B-E38B-4D80-A38E-2FAF4559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622-D500-4789-BD52-1673BC2D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B6E-03C2-4B76-A720-3DD2F4E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939-6A37-4D80-BDCF-C01E6C33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82B-2668-400A-9849-7FA1687D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045-80BE-4B3D-96D7-0CB716BB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73A-C758-4FFC-BCC5-E51FC655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3C616-2A73-433A-A0FC-07C0948ABE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