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92744"/>
        <c:axId val="79368774"/>
      </c:barChart>
      <c:catAx>
        <c:axId val="58392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68774"/>
        <c:crosses val="autoZero"/>
        <c:auto val="1"/>
        <c:lblAlgn val="ctr"/>
        <c:lblOffset val="100"/>
        <c:noMultiLvlLbl val="0"/>
      </c:catAx>
      <c:valAx>
        <c:axId val="79368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92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BC1-51B1-4E4D-A613-8ABA3A8D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8E5-D5D2-4063-9AF6-0E9242B9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E8F-6DB8-4C6E-ADAA-6D2A7DEC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A93-BDF4-4275-A7E6-4CE84090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726B-4360-407C-BD73-A971C354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09A-258E-41E1-A703-674F970F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86A-E7B9-4126-B9BA-C002A35A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C6C-E1F5-48D2-B68E-7603D416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5A7-6016-4C33-86C8-50F3C229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A7F-3F4B-4D47-A3DD-5C32F418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F36-2887-4B92-ACE3-F7DD4B30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E3B-E07C-4ECB-8145-F7F5E1EC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32A1F-1AF7-41B9-BDE4-CC6873AB34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