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00399"/>
        <c:axId val="82728244"/>
      </c:barChart>
      <c:catAx>
        <c:axId val="62900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28244"/>
        <c:crosses val="autoZero"/>
        <c:auto val="1"/>
        <c:lblAlgn val="ctr"/>
        <c:lblOffset val="100"/>
        <c:noMultiLvlLbl val="0"/>
      </c:catAx>
      <c:valAx>
        <c:axId val="82728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00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85E-8612-46D0-8FB5-B62EBA30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3D4-FDA4-4F2F-ADA1-DDFC403D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6EC-4087-4EDC-98C2-CC707264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151-CC48-4F7F-9695-BED84032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E6D-454D-4CAC-8D23-278FD1EF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41AB-9ACD-417C-B21E-9C9266EB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905B-A04A-4E5D-8732-0784B5B2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C92-B153-4C77-AF7D-BE18C8F4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93E-52B7-4F78-A7FF-8F11CCD7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BBE-3A15-4B4D-8C84-96A03D73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F97-EAC2-44EA-B295-CBA4172D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D82-03D3-4710-B165-CEB26560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21E08-AB25-4DE7-9F13-D794E1AF4A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